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232-0D4F-4276-B076-2406CB13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0D5-0A71-4EEE-BAE7-5FF9AE29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4AE-11A4-4E02-9703-7F5E6965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994-A472-4C15-BC11-950C868B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5C7-A0BE-4C20-AE9C-BADEC9D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A46-D5F0-4781-B1AF-826ACBC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CA4-F8A1-4F44-9CC5-AA351B8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5D0-3F6D-46E4-A937-F1B68C1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2A7-B95D-4499-9F98-B718D28A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DA5-7250-4942-A251-2FE6192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D0B-51AC-4408-8BCB-AEB1FDE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03D-B5F8-4EBB-BF4B-0CF4771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3DDD8620-9A35-4F13-9962-58DB8815300D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's- Forward View, next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F6F-AFDB-43DE-83FD-BC19156B36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ADD-8E64-4FA6-9A36-1AA3468686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8F7-005A-41A7-87A9-12F3E4B07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gnificant activities in next period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irs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process to enter into Peri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second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Repo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 financ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FF5-DF19-4F44-B3CB-2B7B52808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Full Break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143000"/>
          <a:ext cx="8229600" cy="4721400"/>
        </p:xfrm>
        <a:graphic>
          <a:graphicData uri="http://schemas.openxmlformats.org/drawingml/2006/table">
            <a:tbl>
              <a:tblPr/>
              <a:tblGrid>
                <a:gridCol w="857160"/>
                <a:gridCol w="914400"/>
                <a:gridCol w="914400"/>
                <a:gridCol w="914400"/>
                <a:gridCol w="916200"/>
                <a:gridCol w="914400"/>
                <a:gridCol w="914400"/>
                <a:gridCol w="914400"/>
                <a:gridCol w="969840"/>
              </a:tblGrid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o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R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6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,4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8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3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052,0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7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8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7,593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3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7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9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5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1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7,1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6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7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7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252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7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,419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7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1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9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47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CDD-0B44-45E9-BC8F-9A10CF8A4D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VN-NREN F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support and connections with internation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lead to coordinate communication between nation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EVN-NRE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co-located with EVN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with outreach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of next publication/presentati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808-5E13-4367-82F3-EC42446FD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VSA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cheduling discu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support flexible scheduling to support T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in active email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brought before the EVN Board fo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publication and responsibility for the e-VLBI schedule (see 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back-to-back e-VLBI session is planned for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889-3E0A-4E47-85F7-ACAB6DDB2D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hedul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6248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ken from: http://www.expres-eu.org/evlb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050840"/>
            <a:ext cx="639756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71D-AA58-4F2E-8BC9-3EDF4A1DDC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reach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Outreach via Jodrell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presentati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ing out to communities beyond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ENA- European R&amp;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N- Asia-Pacific R&amp;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ID- Advanced Grid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officer will promote results of forthcoming scienc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A3A-39EC-4343-82D6-F4A15D6F4E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5CC-ED9A-419B-ABAA-BB3DE64F83A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2:06:31Z</dcterms:modified>
  <cp:revision>107</cp:revision>
  <dc:subject/>
  <dc:title>Slide 1</dc:title>
</cp:coreProperties>
</file>